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1962-A052-4D23-A6F7-A3A84EEA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66AE-0ED5-4152-B14C-35E37D77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8A75-CF4F-439F-AA87-40EC7407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B8D8-D7CD-41F6-B261-0F4F9C79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30D-1410-4AFF-98A4-8E098106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31D5-486C-4D7A-B8BD-4F8B19D8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60F1-2492-4413-97DC-824AD116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1DD0-61C2-4D1F-8D65-A77E722B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9CDA-1674-46F6-87E0-DB46F092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6552-9C59-4036-9444-C9C257F5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BF2E-9567-4BBD-A34A-E01A24CA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E7B6-50AC-4347-BF8F-ABEA039B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C505-2BB2-4FB5-B8D1-9F1CB4E27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454560"/>
            <a:ext cx="582948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ar to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57200" y="-762120"/>
            <a:ext cx="7772400" cy="10688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" y="4419720"/>
            <a:ext cx="4648320" cy="1295280"/>
          </a:xfrm>
          <a:prstGeom prst="rect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457200" y="-771480"/>
            <a:ext cx="7772400" cy="106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457200" y="-762120"/>
            <a:ext cx="7772400" cy="10688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5486400"/>
            <a:ext cx="4648320" cy="1600200"/>
          </a:xfrm>
          <a:prstGeom prst="rect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457200" y="-771480"/>
            <a:ext cx="7772400" cy="106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457200" y="-771480"/>
            <a:ext cx="7772400" cy="106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457200" y="-762120"/>
            <a:ext cx="7772400" cy="10688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7162920"/>
            <a:ext cx="4648320" cy="1600200"/>
          </a:xfrm>
          <a:prstGeom prst="rect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ding/Reflec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is block you will 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 and write about how they are using the strate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nd discuss something they have just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reading boo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ar to Success Note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771480"/>
            <a:ext cx="7772400" cy="106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04920" y="-609480"/>
            <a:ext cx="7772400" cy="10688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14400" y="1905120"/>
            <a:ext cx="4114800" cy="1447560"/>
          </a:xfrm>
          <a:prstGeom prst="rect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172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s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read previously read SOAR TO SUCCESS boo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SOAR TO SUCCESS book and reread it practicing the four reading strategies we will learn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con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discussion concerning the books we are reading independentl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762120"/>
            <a:ext cx="7772400" cy="10688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3124080"/>
            <a:ext cx="4648320" cy="1295640"/>
          </a:xfrm>
          <a:prstGeom prst="rect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discuss the four Reciprocal Teaching Reading Strategies that we will be learning today and/or we will summarize what we read the previous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771480"/>
            <a:ext cx="7772400" cy="106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-771480"/>
            <a:ext cx="7772400" cy="106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9T13:03:22Z</dcterms:created>
  <dc:creator>j</dc:creator>
  <dc:description/>
  <dc:language>en-US</dc:language>
  <cp:lastModifiedBy>j</cp:lastModifiedBy>
  <dcterms:modified xsi:type="dcterms:W3CDTF">2010-06-19T17:24:21Z</dcterms:modified>
  <cp:revision>5</cp:revision>
  <dc:subject/>
  <dc:title>Soar to Success</dc:title>
</cp:coreProperties>
</file>